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1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13.jpeg" ContentType="image/jpeg"/>
  <Override PartName="/ppt/media/image8.jpeg" ContentType="image/jpeg"/>
  <Override PartName="/ppt/media/image2.jpeg" ContentType="image/jpeg"/>
  <Override PartName="/ppt/media/Sleigh%20Ride.wav" ContentType="audio/x-wav"/>
  <Override PartName="/ppt/media/image3.jpeg" ContentType="image/jpeg"/>
  <Override PartName="/ppt/media/image12.gif" ContentType="image/gif"/>
  <Override PartName="/ppt/media/image4.gif" ContentType="image/gif"/>
  <Override PartName="/ppt/media/image7.gif" ContentType="image/gif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0A6D-E68D-4230-90E7-A37076E6A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3855-C3EF-45DC-A854-3BF3794D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DC6-6CBC-4B9F-8C14-EE21983C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6C97-F328-4A37-96BC-19CC0C41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4BA5-024F-4485-85FF-65A652B3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C55F-3CA3-427E-910C-00C029FD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E2CF-E467-41E3-9EC7-AF9D70855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3D02-BD48-492B-8130-8E31983B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361-A552-49D6-90F2-628AFFC3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C34B-32B6-4B37-BFE5-4EBAE7A6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F3B4-AB93-416A-94EA-EF764D19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69B1-123B-412D-83ED-CCCB952B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EF1F-B526-4B4D-AE0D-8E02284CA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leigh%20Rid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5616720" cy="1470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Monotype Corsiva"/>
              </a:rPr>
              <a:t>SLEIGH RID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64000" y="5118120"/>
            <a:ext cx="3780000" cy="228852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Jorge , Susana , Raúl S , Celia , Raúl R , Nerea y Rubé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14400" y="333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Just hear those sleigh bells jingling,     ring-ting-tingling, too.</a:t>
            </a:r>
            <a:br>
              <a:rPr sz="3200"/>
            </a:br>
            <a:r>
              <a:rPr b="1" lang="es-ES" sz="3200" spc="-1" strike="noStrike">
                <a:solidFill>
                  <a:srgbClr val="3333ff"/>
                </a:solidFill>
                <a:latin typeface="Arial"/>
              </a:rPr>
              <a:t>Come on, it's lovely weather for a sleigh ride together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Let's take that road before us and sing a chorus or two </a:t>
            </a:r>
            <a:br>
              <a:rPr sz="3200"/>
            </a:b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427640" y="1052280"/>
            <a:ext cx="40384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66ff66"/>
                </a:solidFill>
                <a:latin typeface="Arial"/>
              </a:rPr>
              <a:t>Come on, it's lovely weather for a sleigh ride together with you.</a:t>
            </a:r>
            <a:br>
              <a:rPr sz="2800"/>
            </a:br>
            <a:r>
              <a:rPr b="0" lang="es-ES" sz="2800" spc="-1" strike="noStrike">
                <a:solidFill>
                  <a:srgbClr val="66ff66"/>
                </a:solidFill>
                <a:latin typeface="Arial"/>
              </a:rPr>
              <a:t>                            Come on, it's lovely weather for a sleigh ride together with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-187560" y="422424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 advTm="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4941360"/>
            <a:ext cx="9144000" cy="191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Monotype Corsiva"/>
              </a:rPr>
              <a:t>Just hear those sleigh bells jingling, ring-ting-tingling, too 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Monotype Corsiva"/>
              </a:rPr>
              <a:t>Come on, it's lovely weather for a sleigh ride together with you</a:t>
            </a:r>
            <a:r>
              <a:rPr b="1" lang="es-ES" sz="2800" spc="-1" strike="noStrike">
                <a:solidFill>
                  <a:srgbClr val="003300"/>
                </a:solidFill>
                <a:latin typeface="Monotype Corsiv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edge/>
    <p:sndAc>
      <p:stSnd>
        <p:snd r:embed="rId2" name="Sleigh%20Ri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4770000"/>
            <a:ext cx="914400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3333cc"/>
                </a:solidFill>
                <a:latin typeface="Monotype Corsiva"/>
              </a:rPr>
              <a:t>Outside the snow is falling and friends are calling, 'Yoo-hoo!' </a:t>
            </a:r>
            <a:br>
              <a:rPr sz="3600"/>
            </a:br>
            <a:r>
              <a:rPr b="1" i="1" lang="es-ES" sz="3600" spc="-1" strike="noStrike">
                <a:solidFill>
                  <a:srgbClr val="3333cc"/>
                </a:solidFill>
                <a:latin typeface="Monotype Corsiva"/>
              </a:rPr>
              <a:t>Come on, it's lovely weather for a sleigh ride together with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390400" y="5202000"/>
            <a:ext cx="6753240" cy="1655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Monotype Corsiva"/>
              </a:rPr>
              <a:t>Giddy-up, giddy-up, giddy-up, let's go </a:t>
            </a:r>
            <a:br>
              <a:rPr sz="3600"/>
            </a:br>
            <a:r>
              <a:rPr b="1" i="1" lang="es-ES" sz="3600" spc="-1" strike="noStrike">
                <a:solidFill>
                  <a:srgbClr val="ffff00"/>
                </a:solidFill>
                <a:latin typeface="Monotype Corsiva"/>
              </a:rPr>
              <a:t>Let's look at the show </a:t>
            </a:r>
            <a:br>
              <a:rPr sz="3600"/>
            </a:br>
            <a:r>
              <a:rPr b="1" i="1" lang="es-ES" sz="3600" spc="-1" strike="noStrike">
                <a:solidFill>
                  <a:srgbClr val="ffff00"/>
                </a:solidFill>
                <a:latin typeface="Monotype Corsiva"/>
              </a:rPr>
              <a:t>We're riding in a wonderland of sno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4770000"/>
            <a:ext cx="9144000" cy="208764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Monotype Corsiva"/>
              </a:rPr>
              <a:t>Giddy-up, giddy-up, giddy-up, it's grand </a:t>
            </a:r>
            <a:br>
              <a:rPr sz="3600"/>
            </a:br>
            <a:r>
              <a:rPr b="1" i="1" lang="es-ES" sz="3600" spc="-1" strike="noStrike">
                <a:solidFill>
                  <a:srgbClr val="ffff00"/>
                </a:solidFill>
                <a:latin typeface="Monotype Corsiva"/>
              </a:rPr>
              <a:t>Just holding your hand </a:t>
            </a:r>
            <a:br>
              <a:rPr sz="3600"/>
            </a:br>
            <a:r>
              <a:rPr b="1" i="1" lang="es-ES" sz="3600" spc="-1" strike="noStrike">
                <a:solidFill>
                  <a:srgbClr val="ffff00"/>
                </a:solidFill>
                <a:latin typeface="Monotype Corsiva"/>
              </a:rPr>
              <a:t>We're gliding along with a song of a wintery fairyland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5084640"/>
            <a:ext cx="9144000" cy="1773360"/>
          </a:xfrm>
          <a:prstGeom prst="rect">
            <a:avLst/>
          </a:prstGeom>
          <a:solidFill>
            <a:srgbClr val="cc00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66ff66"/>
                </a:solidFill>
                <a:latin typeface="Monotype Corsiva"/>
              </a:rPr>
              <a:t>Our cheeks are nice and rosy and comfy-cozy are we </a:t>
            </a:r>
            <a:br>
              <a:rPr sz="3200"/>
            </a:br>
            <a:r>
              <a:rPr b="1" i="1" lang="es-ES" sz="3200" spc="-1" strike="noStrike">
                <a:solidFill>
                  <a:srgbClr val="66ff66"/>
                </a:solidFill>
                <a:latin typeface="Monotype Corsiva"/>
              </a:rPr>
              <a:t>We're snuggled up together like two birds of a feather would be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797360"/>
            <a:ext cx="9144000" cy="2060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Monotype Corsiva"/>
              </a:rPr>
              <a:t>Let's take that road before us and sing a chorus or two </a:t>
            </a:r>
            <a:br>
              <a:rPr sz="3600"/>
            </a:br>
            <a:r>
              <a:rPr b="1" i="1" lang="es-ES" sz="3600" spc="-1" strike="noStrike">
                <a:solidFill>
                  <a:srgbClr val="ffffff"/>
                </a:solidFill>
                <a:latin typeface="Monotype Corsiva"/>
              </a:rPr>
              <a:t>Come on, it's lovely weather for a sleigh ride together with you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130120"/>
            <a:ext cx="63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60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There's a birthday party at the home of Farmer Gray</a:t>
            </a:r>
            <a:br>
              <a:rPr sz="2400"/>
            </a:b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It'll be the perfect ending of a perfect day</a:t>
            </a:r>
            <a:br>
              <a:rPr sz="2400"/>
            </a:b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We'll be singing the songs we love to sing without a single stop</a:t>
            </a:r>
            <a:br>
              <a:rPr sz="2400"/>
            </a:br>
            <a:r>
              <a:rPr b="1" lang="es-ES" sz="2400" spc="-1" strike="noStrike">
                <a:solidFill>
                  <a:srgbClr val="008000"/>
                </a:solidFill>
                <a:latin typeface="Arial"/>
              </a:rPr>
              <a:t>At the fireplace while we watch the chestnuts po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2735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here's a happy feeling nothing in the world can buy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When they pass around the coffee and the pumpkin pie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It'll nearly be like a picture print by Currier and Ives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Yet these wonderful things we remember all through our liv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5213520"/>
            <a:ext cx="2195640" cy="164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04000" y="5043600"/>
            <a:ext cx="2340000" cy="18144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4:51:42Z</dcterms:created>
  <dc:creator>pc10</dc:creator>
  <dc:description/>
  <dc:language>en-US</dc:language>
  <cp:lastModifiedBy>pc10</cp:lastModifiedBy>
  <dcterms:modified xsi:type="dcterms:W3CDTF">2011-12-21T15:30:27Z</dcterms:modified>
  <cp:revision>9</cp:revision>
  <dc:subject/>
  <dc:title>SLEIGH RIDE</dc:title>
</cp:coreProperties>
</file>